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441-E799-4744-B347-70316112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948-0EBF-4AF1-9104-2AA5E946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639-81AF-4EA5-9A51-A6E94617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B1C-A876-4E6A-A364-A9114F90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96F-1973-4341-BFAA-434F49BF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FD1-392B-4C8D-AF00-AD7883F8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E7A-FEAC-4B89-973D-07907EC8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487-F812-4492-A47B-860888DA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3CE-0045-4C0B-BF6E-AA564E46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D72-AF54-4890-B999-D6F0A278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D25-156D-4887-A544-08646058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472-93F3-4FEA-B126-7D3A4F8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0EBB-9F82-4E3C-A134-D8A27CB1E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riters Use Interesting Wor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riters Use Interesting Words</a:t>
            </a:r>
            <a:br>
              <a:rPr sz="4400"/>
            </a:br>
            <a:br>
              <a:rPr sz="20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Powerful verbs can make a difference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ld ma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lk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cross the roo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733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ld ma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huffl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cross the ro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7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n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lk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cross the room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7720" y="2482920"/>
            <a:ext cx="66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n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huffl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cross the ro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6440" y="3441600"/>
            <a:ext cx="66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n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nc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cross the ro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000" y="4387680"/>
            <a:ext cx="73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n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eande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cross the ro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lo, 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ai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0988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lo, 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urmu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98440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lo, 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rk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2840" y="4006800"/>
            <a:ext cx="41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lo, 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umbl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gain, try making a word web of commonly used verbs…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9560" y="36910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39625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880" y="24382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uff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56040" y="3352320"/>
            <a:ext cx="32544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51480" y="304812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560" y="28954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4640" y="37339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n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440" y="441972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16560" y="50292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unt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2040" y="50292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26520" y="4419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920" y="2895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720" y="37339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p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5200" y="4114800"/>
            <a:ext cx="38088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865680" y="3352320"/>
            <a:ext cx="45720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897440" y="4114800"/>
            <a:ext cx="4572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627080" y="4191120"/>
            <a:ext cx="30492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70240" y="4191120"/>
            <a:ext cx="30492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10240" y="21337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uff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n decide which verb fits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best in your sentence…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5410080"/>
            <a:ext cx="4191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ld ma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3920" y="551664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huff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7280" y="33861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10240" y="21337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uff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703760" y="3048120"/>
            <a:ext cx="32544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98840" y="274320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7280" y="2590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360" y="3429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n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160" y="41148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63920" y="4724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unt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19760" y="4724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74240" y="4114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1640" y="2590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4440" y="3429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p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652920" y="3809520"/>
            <a:ext cx="38088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657600"/>
            <a:ext cx="53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713040" y="3048120"/>
            <a:ext cx="4572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745160" y="3809520"/>
            <a:ext cx="45720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474800" y="3886200"/>
            <a:ext cx="30492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017960" y="3886200"/>
            <a:ext cx="30492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52640" cy="152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1676520"/>
            <a:ext cx="2590920" cy="1523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5840" y="1870200"/>
            <a:ext cx="2073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mm…old men don’t walk very fast.  They kind of shuffle along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1981080"/>
            <a:ext cx="152280" cy="152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2133720"/>
            <a:ext cx="152280" cy="152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245124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Today…..and for the rest of the week, pay particular attention to the verbs that you choo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24382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Find two or three places that you have used a boring or mundane verb and choose a more interesting wo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220680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I will be coming around to talk with you about this and asking you to show me where you have made another word choice for a ver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0720" y="277164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I will also be asking some of you to share at the end of the worksho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was 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eacher.  She was alway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her students.  They liked her a lot because she treated them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ice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925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riters Use Interesting Word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Be specific when expressing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feelings and emotions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01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a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hen my dog died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080" y="3854520"/>
            <a:ext cx="75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vastat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hen my dog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gain, try making a word web of common expressions of feelings…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7600" y="36910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39625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160" y="25146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ast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856040" y="3352320"/>
            <a:ext cx="32544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51480" y="304812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6240" y="28954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us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69720" y="37339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8160" y="4419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6920" y="51055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2880" y="51055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rrow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20600" y="4495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e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7200" y="2890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ancho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360" y="3733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er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805200" y="4114800"/>
            <a:ext cx="38088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39625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865680" y="3352320"/>
            <a:ext cx="45720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897440" y="4114800"/>
            <a:ext cx="4572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627080" y="4191120"/>
            <a:ext cx="30492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70240" y="4191120"/>
            <a:ext cx="30492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56880" y="21337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ast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n decide which word fits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best in your sentence…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5410080"/>
            <a:ext cx="3353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a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my dog di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240" y="551484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vas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6880" y="21337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vast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1981080"/>
            <a:ext cx="152640" cy="152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1676520"/>
            <a:ext cx="2590920" cy="1523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199404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mm…I was more than a little sad…I was devastated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1981080"/>
            <a:ext cx="152280" cy="152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133720"/>
            <a:ext cx="152280" cy="152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35863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03760" y="2976120"/>
            <a:ext cx="32544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98840" y="267192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3600" y="2519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us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17080" y="33577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880" y="4043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64280" y="47293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4729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rrow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7960" y="4119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e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4920" y="25146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ancho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0720" y="33577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er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652920" y="3738600"/>
            <a:ext cx="38088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3586320"/>
            <a:ext cx="53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3713040" y="2976120"/>
            <a:ext cx="45720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745160" y="3738600"/>
            <a:ext cx="4572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474800" y="3814920"/>
            <a:ext cx="30492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017960" y="3814920"/>
            <a:ext cx="30492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9920" y="32767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21304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Today…..and for the rest of the week, pay particular attention to the words that you choose to describe your feeling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228276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Find two or three places that you have used a boring or mundane word to describe how you feel and choose a more interesting wo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1809720"/>
            <a:ext cx="624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I will be coming around to talk with you about this and asking you to show me where you have made another word choice to describe your feeling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2695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I will also be asking some of you to share at the end of the worksho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e was 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rea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eacher.  She was alway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ki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her students.  They liked her a lot because she treated them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air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ry making a word web of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mmonly used words…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39000" y="3691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39625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70240" y="243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856040" y="3200400"/>
            <a:ext cx="45720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51480" y="304812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22440" y="2743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02600" y="36576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60960" y="44197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ea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79480" y="51055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joy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0284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re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79280" y="43434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0200" y="28954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3733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65680" y="4038120"/>
            <a:ext cx="38088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7080" y="3962520"/>
            <a:ext cx="53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865680" y="3352320"/>
            <a:ext cx="45720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4703760" y="4114800"/>
            <a:ext cx="4572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627080" y="4191120"/>
            <a:ext cx="30492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170240" y="4191120"/>
            <a:ext cx="30492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71160" y="25909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n decide which word fits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best in your sentence…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89520" y="3505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74960" y="38098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12840" y="2286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98640" y="3047760"/>
            <a:ext cx="457200" cy="533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94080" y="28954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74400" y="25909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45200" y="35053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3560" y="4267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ea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22080" y="49528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joy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45440" y="49528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re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1880" y="41911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2800" y="27432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35812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08280" y="3886200"/>
            <a:ext cx="38088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9680" y="3809880"/>
            <a:ext cx="53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808280" y="3200400"/>
            <a:ext cx="4572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646360" y="3962520"/>
            <a:ext cx="4572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569680" y="4038120"/>
            <a:ext cx="3049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112840" y="4038120"/>
            <a:ext cx="3049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3886200"/>
            <a:ext cx="4191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as always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r stud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438280"/>
            <a:ext cx="152280" cy="152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2666880" cy="17524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2359080"/>
            <a:ext cx="2073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mm…Kind.  That’s a good way to describe a person and how they treat you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438280"/>
            <a:ext cx="152640" cy="152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590920"/>
            <a:ext cx="152640" cy="152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480" y="505764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237492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Today…..and for the rest of the week, pay particular attention to the words that you choo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2514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Find two or three places that you have used a boring or mundane word and choose a more interesting wo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220680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I will be coming around to talk with you about this and asking you to show me where you have made another word cho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95280" y="277164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I will also be asking you to share at the end of the worksho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4:04:53Z</dcterms:created>
  <dc:creator>Chuck Hatt</dc:creator>
  <dc:description/>
  <dc:language>en-US</dc:language>
  <cp:lastModifiedBy>Chuck Hatt</cp:lastModifiedBy>
  <cp:lastPrinted>2005-08-23T00:09:59Z</cp:lastPrinted>
  <dcterms:modified xsi:type="dcterms:W3CDTF">2005-08-24T11:07:32Z</dcterms:modified>
  <cp:revision>16</cp:revision>
  <dc:subject/>
  <dc:title>Writers Use Interesting Words</dc:title>
</cp:coreProperties>
</file>